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0F9-EFB4-4580-A3C4-88E57ACB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C7F-BC50-424F-A825-10B8B38A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0C1-18B5-45E2-A66D-2F0B501A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352-F137-4C6E-B6E9-80410E65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3F21-7473-4EDB-AD8A-D2984247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46C0-A288-4469-8FB1-7BA6EFB5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BF5E-011C-4554-BAE6-52B616B3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FDF4-2A7F-4E46-9025-2723D9BB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72A8-053E-487E-AB43-7D27BAD9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1A0F-0E5E-40B7-9A05-8F75F072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023C-A813-4CCF-962F-40BC39B2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8F7-F1C8-4223-8BBB-A0646CA7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0515-F03B-4048-9447-BC09B910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A026-CDB1-4660-87DD-F6CA32AE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8A3D-A2BE-4668-AD99-C4678B4B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078B-2FE5-4017-A8AE-2152B937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7CBD-AF68-45B2-B4AE-08BF28B6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1491-80C6-4264-9E4D-EA5B1C2E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4FA-E1D2-459B-AB6D-645DF1A1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FF90-D3E3-43F8-B957-6D8EB42F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846-9FE7-44FD-8053-F19646F1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57F-2E5E-4AC7-B307-213B87DA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92F-67CE-44B5-9888-E94792A5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616-2B01-42F4-B625-F9CBC1E2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76EA-E71D-4A66-80FE-1D4A4B3468C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3D2D-FFA6-4CD4-9F74-BEF5EDF0F65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BORON FAMILY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"/>
          <p:cNvSpPr/>
          <p:nvPr/>
        </p:nvSpPr>
        <p:spPr>
          <a:xfrm>
            <a:off x="2627280" y="522936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79640" y="573408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Monotype Corsiva"/>
              </a:rPr>
              <a:t>4</a:t>
            </a:r>
            <a:r>
              <a:rPr b="0" lang="en-US" sz="1800" spc="-1" strike="noStrike" baseline="30000">
                <a:solidFill>
                  <a:srgbClr val="ffcc00"/>
                </a:solidFill>
                <a:latin typeface="Monotype Corsiva"/>
              </a:rPr>
              <a:t>th</a:t>
            </a:r>
            <a:r>
              <a:rPr b="0" lang="en-US" sz="1800" spc="-1" strike="noStrike">
                <a:solidFill>
                  <a:srgbClr val="ffcc00"/>
                </a:solidFill>
                <a:latin typeface="Monotype Corsiva"/>
              </a:rPr>
              <a:t>  Emily Fears &amp; Veronica Cervant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ELEMENTS NAM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BORON</a:t>
            </a: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ALUMINU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GALLIU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INDIU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THALLIU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BORON FAMILY INFORM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Monotype Corsiva"/>
              </a:rPr>
              <a:t>The Boron Family is a metalloid.</a:t>
            </a:r>
            <a:r>
              <a:rPr b="0" lang="en-US" sz="2800" spc="-1" strike="noStrike">
                <a:solidFill>
                  <a:srgbClr val="ffcc00"/>
                </a:solidFill>
                <a:latin typeface="Monotype Corsiva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Monotype Corsiva"/>
              </a:rPr>
              <a:t>Most of the family are met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Monotype Corsiva"/>
              </a:rPr>
              <a:t>They have 3 electrons in the outer shell or in other words the valence electron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Monotype Corsiva"/>
              </a:rPr>
              <a:t>The name comes from the Arabic and Persian words for borax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Monotype Corsiva"/>
              </a:rPr>
              <a:t>Boron exists in the earths crust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Monotype Corsiva"/>
              </a:rPr>
              <a:t>The pure elements is shiny and black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7:34:24Z</dcterms:created>
  <dc:creator>tatumadmin</dc:creator>
  <dc:description/>
  <dc:language>en-US</dc:language>
  <cp:lastModifiedBy>tatumadmin</cp:lastModifiedBy>
  <dcterms:modified xsi:type="dcterms:W3CDTF">2009-12-04T17:23:25Z</dcterms:modified>
  <cp:revision>2</cp:revision>
  <dc:subject/>
  <dc:title>BORON FAMILY</dc:title>
</cp:coreProperties>
</file>